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6FA-1296-4422-9BBE-E53047CC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7F7-4279-4196-A874-D5064822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127-D44B-4F76-A0F8-3B9F825E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8CB-7DB5-4745-95BF-C7A548B8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D64-4F85-4BA0-9CFC-5E67FB51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F1F-7D3C-4DD9-B0AD-77A8B4A9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0E1-237D-4976-8A79-77729C19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941-F587-45EF-BB9E-2B50043C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4CE-BCA5-4AE0-8922-8F7A547D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D0A-603A-4570-921E-4814321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965-A60B-4540-84C8-D26D1B42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775-3EBE-4AF5-91FD-497CF604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3CB7-82BD-4D13-BDED-F9D67F18D42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Concept f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ecruiting int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Ralf Schol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 PHE RD Ref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.02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Interview proces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4-Step-Approach for highest qualit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ofile analysis on CV and application on written basi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cumented phone screening on technical basi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interview on a scheduled recruiting day with all necessary parties available. Parallel interviews of candidates by HR and technical department starting with second candidate. Target to have 4 to 5 candidates screened on one recruiting day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up to 3 F2F-interviews (Department, HR, upper management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in the process are dependent on the locatio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The common process ensures the same quality level and comprehensive analysis for KLF and MCH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file analysi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irst analysis has to be done by HR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partment has to deliver a checklist with degree of fulfillment for evaluation to get an objective judg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ofile analysis has to be documented by HR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Results have to handed over to manage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ositive judged surveys have to handed over to departments 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hone scree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ne by the department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basic questionnaire has to be prepared  to check fulfillment degree of requirement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ocumentation of results for evaluation purpose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cision whether process continuing is needed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are M. Demaria or St.Luxenburger (one of them mandatory) and mandatory a system architect in the locatio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ersonal interview in department and H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etailed technical analysis (hard skills) and social competencies (soft skills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duration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6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20-30 min for presentation of a given topic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lvl="1" marL="690840" indent="-265680">
              <a:spcBef>
                <a:spcPts val="6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~1,5 h for questions (part 1 on a prepared technical questionnaire / part 2 evaluation of the answers in more detail) 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commonly agreed positive result is needed for next step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-31896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 are K. Rudolph or G. Fässler / M. Demaria or St. Luxenburger and in minimum a Line manager or system architect of the location / J. Rein or HR recruiter (Klf)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F2F-interview with upper managem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or candidates with capabilities for team leading or executive functionalit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talk F2F to Siegfried Bocionek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Result round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After ending  up the interviews a common round will be done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articipants: all involved managers in the interview proces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wrap up to whom an offer will be given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identification of lacks in interview process or questionnaires to resolve for next recruiting day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Open task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eparation of technical questionnaires for phone screening and first interview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list of technical topics for potential presentation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Questionnaire on emotional framework should be taken from proposal of Siegfried Bocionek. Example questions might be adopted. Revision and feedback from interview team to be done.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Fix schedule of two recruiting days/month to secure availability of all relevant interviewer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0e66"/>
                </a:solidFill>
                <a:latin typeface="Minion"/>
              </a:rPr>
              <a:t>preparation of  similar job descriptions for the other key roles</a:t>
            </a:r>
            <a:endParaRPr b="0" lang="en-US" sz="2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cholzR</cp:lastModifiedBy>
  <dcterms:modified xsi:type="dcterms:W3CDTF">2006-02-17T16:39:37Z</dcterms:modified>
  <cp:revision>58</cp:revision>
  <dc:subject/>
  <dc:title>PowerPoint 簡報</dc:title>
</cp:coreProperties>
</file>